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5ECB-D9F0-48C2-AE9C-9767DADCC87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0C04-6AA4-4D15-99CA-B3F5365FFA2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olto “Vado_a_Parigi”. Crea l’equivoco che si parli di Sto_bene AND Ho_i_soldi -&gt; Vado_a_pari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511-D713-44D7-8A7E-74F7F2B88B5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 sop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24B9-0F15-428B-B07D-DDA72D2A56A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1A94-E73B-4A56-8172-A2870BC55A3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716E-A4CC-44A1-8BFF-917A333A4FA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9E09-D7AF-4E3B-8BFD-4B3EAB8F001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8A99-0B46-41B4-9256-95E2AFE015F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40BD-3C0D-4806-A5A4-311D9875F4C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FADE-CDF9-418A-9DCF-D8764D48A3A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E095-C1B8-45CE-8CE7-A00E2AB9C43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68A5-CA85-4330-B8B3-589FAD81F2B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C068-F5D8-4481-89F7-1F4F0D9F6B2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rretta tabella di verità, altrimenti err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FCE7-8200-4BB1-8C6C-227083E5336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CB11-DBBE-4863-9E28-FED6454A134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E47C-B43D-48B4-93B7-9077946DB2C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48BE-6599-485D-A787-2B340EF52D9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8519-38DA-4234-A650-C1131FF1128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BD2-3BAB-4856-9E7D-7E3FABD0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080-C5D9-4A6F-B683-17024FC0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543-1972-4031-BE85-79CC9DCA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A9A-D1F6-4635-A8F5-25ECA950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D1B7-FA01-4F22-8AC4-13E3A8AA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4537-2ABB-44D6-A594-3336B2AB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7D1-C423-40B5-9479-E42CDB87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AAA4-730F-4B87-B5F1-E7BE2DC8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D481-D973-4F33-A5DE-D678BCFE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E8C9-8B42-407D-AD7D-C72F1067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9A0B-138E-4A73-A6D4-9D21E068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B75-0CFA-44D3-B046-DBB9631C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44ED-FAAF-4D50-9C32-0E8DCCE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454B-AC03-4635-A62A-2EC2AC5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CD32-6F12-4501-B9D5-9B5DB930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46A2-A950-49FA-BA8A-11CE5CE7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C913-39BC-4621-8463-882E0E44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3EDD-A8EF-4DA5-AAD5-E374573A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558C-5DFA-4030-AED5-386DEE6A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4DB5-C9B8-4075-88D4-81604B28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D50F-ABEC-40F2-A1B4-110AC7EE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FA97-FE95-49C4-93FA-6ABFBAFC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F4E-FE3E-466F-BCB2-E8FC0669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89E9-E66B-4B28-B38B-244BB711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EEF9-13BC-4778-8760-B807E0A2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72F0-00E2-43B0-9A57-130B314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4899-2DB3-46F2-BFAB-5ACD17CE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2327-D489-48D9-AE95-8237480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6BD5-D9B2-4FE7-A3E0-923F7020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A1FC-1CC7-44BF-97D1-E34338F2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387-89FD-4F88-BB58-C8F58094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232-3988-42CD-BC7F-BE22F132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B4D-B275-4C3A-B5FE-80964832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4AC-17DD-4ED7-85B7-E4ABA01E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749-B8FA-4EBD-A135-839AA83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EA6-209D-4896-B029-A544FC27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CC00-BCAB-4DD5-817A-1A687E832B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867D-FA2F-4A46-B1F3-C04D5F74C2E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8185-4DD0-4AAC-B695-F491E74788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560" y="1699920"/>
            <a:ext cx="8929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79280" y="5229360"/>
            <a:ext cx="320760" cy="357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Operatori booleani bina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99680" y="2357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giun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disgiunzione inclus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XOR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giunzione esclus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congiunzione “AND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e due proposizioni P e Q l’operatore “AND” permette di costruire una nuova proposizione “P AND Q” che sarà VERA solo se P e Q sono entrambe ve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362320" y="4038480"/>
          <a:ext cx="3809880" cy="198144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AND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congiunzione “AND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70028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isponde alla congiunzione italian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empio: per andare a Parigi, debbo stare be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bbo avere i soldi per viaggio, vitto ed allogg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3213000"/>
          <a:ext cx="7105680" cy="3260880"/>
        </p:xfrm>
        <a:graphic>
          <a:graphicData uri="http://schemas.openxmlformats.org/drawingml/2006/table">
            <a:tbl>
              <a:tblPr/>
              <a:tblGrid>
                <a:gridCol w="1960560"/>
                <a:gridCol w="2205000"/>
                <a:gridCol w="244440"/>
                <a:gridCol w="2695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_b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_i_sold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_bene AND Ho_i_sol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a disgiunzione inclusiva “OR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e due proposizioni P e Q l’operatore “OR” permette di costruire una nuova proposizione “P OR Q” che sarà FALSA solo se P e Q sono entrambe fal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362320" y="4038480"/>
          <a:ext cx="3809880" cy="198144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OR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a disgiunzione inclusiva “OR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70028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isponde alla disgiunzio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empio: per essere promosso, debbo essere preparato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bbo essere raccomand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4000" y="3068640"/>
          <a:ext cx="8659800" cy="3681360"/>
        </p:xfrm>
        <a:graphic>
          <a:graphicData uri="http://schemas.openxmlformats.org/drawingml/2006/table">
            <a:tbl>
              <a:tblPr/>
              <a:tblGrid>
                <a:gridCol w="2754000"/>
                <a:gridCol w="2936880"/>
                <a:gridCol w="231840"/>
                <a:gridCol w="2737080"/>
              </a:tblGrid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re_prepar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re_raccomandato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re_promo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essere_raccomand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La disgiunzione esclusiva “XOR”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e due proposizioni P e Q l’operatore “XOR” permette di costruire una nuova proposizione “P XOR Q” che sarà VERA quando P e Q hanno valori divers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362320" y="4038480"/>
          <a:ext cx="3809880" cy="198144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XOR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posizioni compost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Si valutano attribuendo valori di verità alle proposizioni semplici e applicando i connettivi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L‘ordine di applicazione dei connettivi rispecchia, a meno di parentesi  “(“  e  “)”  la seguente gerarchia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&lt;  =  &gt;  </a:t>
            </a:r>
            <a:r>
              <a:rPr b="1" lang="it-IT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Es.: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per A vero e B falso      not B or (B and not A) =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ordine di applicazione             3    4        2      1     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risultati delle applicazioni        V    V        F      F     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posizioni compos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384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diamo meglio il metodo che è lo stesso che per le espressioni aritmetich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+ (y – z) /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ordine di applicazione)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    1   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con x = 5, y = 20, z =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73160" y="4363920"/>
          <a:ext cx="5884920" cy="242280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228600"/>
                <a:gridCol w="914400"/>
              </a:tblGrid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7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posizioni compos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diamo meglio l’esempio precedente: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=V, B=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posizione          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not B or (B and not A)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 ordine di applicazione       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3   4         2     1      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43000" y="3286080"/>
          <a:ext cx="7238880" cy="323064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  <a:gridCol w="228600"/>
                <a:gridCol w="914400"/>
              </a:tblGrid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2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7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9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 calcolare i valori di verità di u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sizione non elementare co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P AND Q) OR (NOT P AND NOT 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Calcolo proposiziona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2971800"/>
          <a:ext cx="7470720" cy="2692440"/>
        </p:xfrm>
        <a:graphic>
          <a:graphicData uri="http://schemas.openxmlformats.org/drawingml/2006/table">
            <a:tbl>
              <a:tblPr/>
              <a:tblGrid>
                <a:gridCol w="642600"/>
                <a:gridCol w="1117800"/>
                <a:gridCol w="649080"/>
                <a:gridCol w="729720"/>
                <a:gridCol w="1490760"/>
                <a:gridCol w="1029240"/>
                <a:gridCol w="15969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2971800"/>
          <a:ext cx="7191360" cy="2692440"/>
        </p:xfrm>
        <a:graphic>
          <a:graphicData uri="http://schemas.openxmlformats.org/drawingml/2006/table">
            <a:tbl>
              <a:tblPr/>
              <a:tblGrid>
                <a:gridCol w="618480"/>
                <a:gridCol w="948600"/>
                <a:gridCol w="658440"/>
                <a:gridCol w="741960"/>
                <a:gridCol w="1484640"/>
                <a:gridCol w="987840"/>
                <a:gridCol w="153684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90720" y="2971800"/>
          <a:ext cx="7122960" cy="2692440"/>
        </p:xfrm>
        <a:graphic>
          <a:graphicData uri="http://schemas.openxmlformats.org/drawingml/2006/table">
            <a:tbl>
              <a:tblPr/>
              <a:tblGrid>
                <a:gridCol w="612360"/>
                <a:gridCol w="938880"/>
                <a:gridCol w="651960"/>
                <a:gridCol w="734040"/>
                <a:gridCol w="1470240"/>
                <a:gridCol w="978480"/>
                <a:gridCol w="152244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90720" y="2971800"/>
          <a:ext cx="7261200" cy="2692440"/>
        </p:xfrm>
        <a:graphic>
          <a:graphicData uri="http://schemas.openxmlformats.org/drawingml/2006/table">
            <a:tbl>
              <a:tblPr/>
              <a:tblGrid>
                <a:gridCol w="624960"/>
                <a:gridCol w="956520"/>
                <a:gridCol w="666000"/>
                <a:gridCol w="750240"/>
                <a:gridCol w="1498680"/>
                <a:gridCol w="997560"/>
                <a:gridCol w="155268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971800"/>
          <a:ext cx="7402320" cy="2692440"/>
        </p:xfrm>
        <a:graphic>
          <a:graphicData uri="http://schemas.openxmlformats.org/drawingml/2006/table">
            <a:tbl>
              <a:tblPr/>
              <a:tblGrid>
                <a:gridCol w="637200"/>
                <a:gridCol w="975240"/>
                <a:gridCol w="680400"/>
                <a:gridCol w="762840"/>
                <a:gridCol w="1528920"/>
                <a:gridCol w="1018080"/>
                <a:gridCol w="15843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calcolano poi i valori del primo AND  e si cancellano le colonne dei valori us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90720" y="2971800"/>
          <a:ext cx="6981840" cy="2692440"/>
        </p:xfrm>
        <a:graphic>
          <a:graphicData uri="http://schemas.openxmlformats.org/drawingml/2006/table">
            <a:tbl>
              <a:tblPr/>
              <a:tblGrid>
                <a:gridCol w="599760"/>
                <a:gridCol w="919800"/>
                <a:gridCol w="639000"/>
                <a:gridCol w="720000"/>
                <a:gridCol w="1438560"/>
                <a:gridCol w="959400"/>
                <a:gridCol w="14907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63"/>
          <p:cNvSpPr/>
          <p:nvPr/>
        </p:nvSpPr>
        <p:spPr>
          <a:xfrm>
            <a:off x="2743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opera allo stesso modo con il secondo A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971800"/>
          <a:ext cx="6657840" cy="3038400"/>
        </p:xfrm>
        <a:graphic>
          <a:graphicData uri="http://schemas.openxmlformats.org/drawingml/2006/table">
            <a:tbl>
              <a:tblPr/>
              <a:tblGrid>
                <a:gridCol w="570960"/>
                <a:gridCol w="875520"/>
                <a:gridCol w="609120"/>
                <a:gridCol w="685080"/>
                <a:gridCol w="1370160"/>
                <a:gridCol w="913320"/>
                <a:gridCol w="1419120"/>
                <a:gridCol w="2160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8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3"/>
          <p:cNvSpPr/>
          <p:nvPr/>
        </p:nvSpPr>
        <p:spPr>
          <a:xfrm>
            <a:off x="2743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64"/>
          <p:cNvSpPr/>
          <p:nvPr/>
        </p:nvSpPr>
        <p:spPr>
          <a:xfrm>
            <a:off x="4427640" y="371628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65"/>
          <p:cNvSpPr/>
          <p:nvPr/>
        </p:nvSpPr>
        <p:spPr>
          <a:xfrm>
            <a:off x="6705720" y="35053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calcola infine OR utilizzando come valori di ingresso le due colonne rimaste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0720" y="2971800"/>
          <a:ext cx="7051680" cy="2692440"/>
        </p:xfrm>
        <a:graphic>
          <a:graphicData uri="http://schemas.openxmlformats.org/drawingml/2006/table">
            <a:tbl>
              <a:tblPr/>
              <a:tblGrid>
                <a:gridCol w="605880"/>
                <a:gridCol w="929520"/>
                <a:gridCol w="645480"/>
                <a:gridCol w="726480"/>
                <a:gridCol w="1454040"/>
                <a:gridCol w="969120"/>
                <a:gridCol w="150660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63"/>
          <p:cNvSpPr/>
          <p:nvPr/>
        </p:nvSpPr>
        <p:spPr>
          <a:xfrm>
            <a:off x="2843280" y="3500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4"/>
          <p:cNvSpPr/>
          <p:nvPr/>
        </p:nvSpPr>
        <p:spPr>
          <a:xfrm>
            <a:off x="4643280" y="357336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65"/>
          <p:cNvSpPr/>
          <p:nvPr/>
        </p:nvSpPr>
        <p:spPr>
          <a:xfrm>
            <a:off x="6705720" y="35053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4000" y="169992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tto OR, che è il “connettivo principale” troviamo la tavola di verità della proposizio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2971800"/>
          <a:ext cx="6981840" cy="2692440"/>
        </p:xfrm>
        <a:graphic>
          <a:graphicData uri="http://schemas.openxmlformats.org/drawingml/2006/table">
            <a:tbl>
              <a:tblPr/>
              <a:tblGrid>
                <a:gridCol w="599760"/>
                <a:gridCol w="919800"/>
                <a:gridCol w="639000"/>
                <a:gridCol w="720000"/>
                <a:gridCol w="1438560"/>
                <a:gridCol w="959400"/>
                <a:gridCol w="14907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2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63"/>
          <p:cNvSpPr/>
          <p:nvPr/>
        </p:nvSpPr>
        <p:spPr>
          <a:xfrm>
            <a:off x="2743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64"/>
          <p:cNvSpPr/>
          <p:nvPr/>
        </p:nvSpPr>
        <p:spPr>
          <a:xfrm>
            <a:off x="4572000" y="357336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65"/>
          <p:cNvSpPr/>
          <p:nvPr/>
        </p:nvSpPr>
        <p:spPr>
          <a:xfrm>
            <a:off x="7020000" y="3500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eorema o tautolo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posizione composta che è vera per qualsiasi combinazione di valori di verità attribuita alle sue proposizioni semplic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s. 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La prima legge di De Morga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not (A and B) = not A or not 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                1               6       3          5       4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rdine di esecu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28840" y="4143240"/>
          <a:ext cx="6095880" cy="24228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ero e falso: logica binar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proposizion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è una affermazione (formula ben formata di un linguaggio), che può essere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ver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oppure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fal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Es. “Mia madre mi vuole bene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Non esiste una terza possibil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traddi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posizione composta che è falsa per qualsiasi combinazione di valori di verità attribuita alle sue proposizioni semplic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. (A &lt; B) = (A 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1          3         2                 ordine di esecu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3352680"/>
          <a:ext cx="4267440" cy="24228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48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Connettivi tri-, .. , n- argomenta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BASTA, non se ne può più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 come descrivere situazion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iù compless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cui non sia intuitivo l’uso dei connettivi studiat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no sufficienti  opportune combinazioni di 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per esprimere un qualsiasi connettiv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057400" y="3581280"/>
          <a:ext cx="4876920" cy="24228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56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tilizzano solo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descrivere risultati  dipendenti da valori di verità di proposizioni sempl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i si riferisce al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ola di verità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cui appaiono tutte le possibili assegnazioni di verità delle proposizioni sempl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considerano le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mbina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le quali si ottiene valore di verità 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 ogni tale combinazione le proposizioni con valore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verità F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fanno precedere d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proposizioni così modificate vengono fra loro connesse con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si creano congiunzion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i congiunzioni vengono fra loro connesse con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, formando una forma disgiuntiva nor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56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.   A=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isultato: (A and B) or (not A and not 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447920" y="1981080"/>
          <a:ext cx="4902120" cy="2457720"/>
        </p:xfrm>
        <a:graphic>
          <a:graphicData uri="http://schemas.openxmlformats.org/drawingml/2006/table">
            <a:tbl>
              <a:tblPr/>
              <a:tblGrid>
                <a:gridCol w="608400"/>
                <a:gridCol w="608400"/>
                <a:gridCol w="188640"/>
                <a:gridCol w="760680"/>
                <a:gridCol w="456480"/>
                <a:gridCol w="227952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 gridSpan="2" rowSpan="2"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and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rowSpan="2"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72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A and not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56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ercizi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condizione di presa nel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ioc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ll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riscol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er il giocatore che tira per primo 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izioni che definiscono la condizion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semi sono uguali 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secondo giocatore ha tirato una briscola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valore della carta del I giocatore è maggiore del  valore della carta del II giocatore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560" y="8377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dizione di presa nella briscola per il primo giocatore (elenchiamo le varie combinazion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G1 = (SU and B2  and M1) or (SU and not B2 and M1) or (not SU and not B2 and M1) or (not SU and not B2 and not M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071800" y="1857240"/>
          <a:ext cx="5333760" cy="3124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533160"/>
                <a:gridCol w="1143000"/>
              </a:tblGrid>
              <a:tr h="376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posizion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1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oposi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emplic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  complesso linguistico o segnico per il quale ha senso attribuire un valore di ver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Valore di ver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(principio di bivalenz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uò esser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vero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true   T       1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also  F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alse  F      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empio1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_luna_è_verde_a_pallini_bl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empio2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netti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214280"/>
            <a:ext cx="8467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proposizioni si possono connettere fra loro a forma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posizioni com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valore di verità della proposizione composta dipende dal tipo d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onnettiv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 dal valore di verità delle proposizioni compon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nnettivi si distinguono dal numero di proposizioni (1, 2, … n) che possono connetter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ono-, bi-,  … n- argomental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’effet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i connettivi si specific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ncand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utti i possibili casi di combinazioni di valori vero e falso delle proposizioni compon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negazione “NOT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2060640"/>
            <a:ext cx="39229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P è una proposizione, si danno due casi possibil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 = VE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 = FAL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5080" y="2060280"/>
            <a:ext cx="392256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conseguenza, per la negazione di P si avranno pure 2 casi corrispondent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P = FAL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P = VE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09480" y="5257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OT” È UN OPERATORE BOOLEANO UNARIO (l’unico connettivo mono-argomenta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3033720" y="44290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3071880" y="4929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16292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Esempi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914400" y="1522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8580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connettivo NOT nega il valore delle proposi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14400" y="3429000"/>
          <a:ext cx="6121440" cy="1951200"/>
        </p:xfrm>
        <a:graphic>
          <a:graphicData uri="http://schemas.openxmlformats.org/drawingml/2006/table">
            <a:tbl>
              <a:tblPr/>
              <a:tblGrid>
                <a:gridCol w="2649240"/>
                <a:gridCol w="216000"/>
                <a:gridCol w="32562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o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   </a:t>
                      </a: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o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nettivi bi-argoment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0040" y="4500720"/>
            <a:ext cx="784224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cuni  sono banali: rimandano tutti V, tutti F, stessi valori di A o B, valori negati di A e 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ri sono parte fondamentale del nostro linguagg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920" y="1828800"/>
          <a:ext cx="8483400" cy="2470320"/>
        </p:xfrm>
        <a:graphic>
          <a:graphicData uri="http://schemas.openxmlformats.org/drawingml/2006/table">
            <a:tbl>
              <a:tblPr/>
              <a:tblGrid>
                <a:gridCol w="448920"/>
                <a:gridCol w="448920"/>
                <a:gridCol w="216000"/>
                <a:gridCol w="366480"/>
                <a:gridCol w="533160"/>
                <a:gridCol w="532800"/>
                <a:gridCol w="609480"/>
                <a:gridCol w="456840"/>
                <a:gridCol w="380520"/>
                <a:gridCol w="380520"/>
                <a:gridCol w="304920"/>
                <a:gridCol w="304920"/>
                <a:gridCol w="532800"/>
                <a:gridCol w="533160"/>
                <a:gridCol w="685440"/>
                <a:gridCol w="533160"/>
                <a:gridCol w="374040"/>
                <a:gridCol w="38700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nettivi bi-argomentali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&lt;  =  &gt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7524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usano anche con valori numeric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ricordi la corrispondenza di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“ e di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rrisponde a “se e solo se”   (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)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sarò_promosso “se e solo se” imparerò_la_ma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mplica”   (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essere_multiplo_di_10 “implica” essere_multiplo_di_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rrisponde all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lternativa: o … o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i_mangi_questa_minestra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i_butti_dalla_finest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2-14T11:11:43Z</dcterms:modified>
  <cp:revision>104</cp:revision>
  <dc:subject/>
  <dc:title>Diapositiva 1</dc:title>
</cp:coreProperties>
</file>